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87A-9EB6-4AB1-A407-F8BF5F6E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6E6-4568-4EC8-B788-98723C7E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62C-29A6-45AF-B913-E9CF6EBE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617-1020-4B04-ABF4-C8EB6822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86DF-ADB0-4BF3-A89E-A13E1C77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7FB9-6507-4902-9C77-B0304F55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4B06-1D97-4F33-8D05-5C2E1674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5A56-EBC4-4C88-83A2-A429143E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C1F0-AA32-4831-96EC-9693FFD6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E01C-DD2F-495A-A062-7ABE5B44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B211-89C4-4CB1-BDF8-0332FA42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4D9-C7F6-4DD1-91FB-AF7CA611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A986-DCC1-498E-BECE-8A28616C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11DC-EC3D-4123-8C66-1F07489B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2F2B-3115-4BFA-A819-BF5C0355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3007-48A2-492D-9C55-B6605C00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601E-4D47-44D9-A034-86F98B2D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12F0-A492-4FF3-A37D-246AF06A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416-D631-45E2-AFD9-E283054C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563-018D-4C90-B12C-44A9862C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BB18-3FF1-4469-A530-B1EB50D2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294-81D5-40BC-88E9-2E30E69E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C8B-6356-42E1-928E-07C267D0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46F-2B6D-4607-A797-61A088FE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6FD1-AE0B-4057-9352-B548C3424B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91D8-6AD1-4DB4-AAB8-707A0CF88B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 the spelling of these tricky wor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ige, plege, knowlige, milage, privle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ege, pledge, knowledge, privileg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eewri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m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bout 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cabul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worksheet with a part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tsb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a partner do the character cha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your own do the le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chapter 8 for Wednesday. (You won’t be in here tomorrow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3:28:50Z</dcterms:created>
  <dc:creator>rebecca</dc:creator>
  <dc:description/>
  <dc:language>en-US</dc:language>
  <cp:lastModifiedBy>rebecca</cp:lastModifiedBy>
  <dcterms:modified xsi:type="dcterms:W3CDTF">2009-03-16T13:44:38Z</dcterms:modified>
  <cp:revision>2</cp:revision>
  <dc:subject/>
  <dc:title>DOL</dc:title>
</cp:coreProperties>
</file>